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voltage.wav" ContentType="audio/x-wav"/>
  <Override PartName="/ppt/media/coin.wav" ContentType="audio/x-wav"/>
  <Override PartName="/ppt/media/bomb.wav" ContentType="audio/x-wav"/>
  <Override PartName="/ppt/media/camera.wav" ContentType="audio/x-wav"/>
  <Override PartName="/ppt/media/wind.wav" ContentType="audio/x-wav"/>
  <Override PartName="/ppt/media/image2.jpeg" ContentType="image/jpeg"/>
  <Override PartName="/ppt/media/image3.png" ContentType="image/png"/>
  <Override PartName="/ppt/media/breeze.wav" ContentType="audio/x-wav"/>
  <Override PartName="/ppt/media/image4.jpeg" ContentType="image/jpeg"/>
  <Override PartName="/ppt/media/applaus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6ED9D-5B38-4DE3-8311-A2EA40ED10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igrants in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lions of immigrants moved to the United States in the late 1800’s &amp; early 1900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igrants in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lions of immigrants moved to the United States in the late 1800’s &amp; early 1900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igration S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immigrants arrived in the U.S., they went through immigration stations, such as Ellis Island in New York Harbor.  Government workers questioned them about where they planned to work &amp; live.  Doctors also examined them to make sure they didn’t have any diseases.  Almost all European immigrants were allowed to enter the U.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igration S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immigrants arrived in the U.S., they went through immigration stations, such as Ellis Island in New York Harbor.  Government workers questioned them about where they planned to work &amp; live.  Doctors also examined them to make sure they didn’t have any diseases.  Almost all European immigrants were allowed to enter the U.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s Against Immi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82 Congress passed Chinese Exclusion 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most all Chinese immigrants were kept out of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21 &amp; 1924 Congress passed laws that lowered  the number of Europeans &amp; As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immigrants faced prejudice upon arri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s Against Immi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82 Congress passed Chinese Exclusion 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most all Chinese immigrants were kept out of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21 &amp; 1924 Congress passed laws that lowered  the number of Europeans &amp; As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immigrants faced prejudice upon arri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igrants helped the U.S. become one of the richest and fastest-growing countries in the world.  They built railroads, dug mines, and worked i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igrants helped the U.S. become one of the richest and fastest-growing countries in the world.  They built railroads, dug mines, and worked i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ADD0-D3ED-4B51-A255-AD7765650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8653-390A-45EB-8B33-D7BA52D2B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C2B5-605A-4B00-9E4A-4862B483F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CAB0-EF27-44D7-8125-6FA9A425D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D7A2-5359-4528-9609-C88701488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8B9A-1810-4E01-AA49-77243CDF6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32C3-3862-4FFF-8D31-524D31E0F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C9D6-E9B0-4E47-A213-C14230356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7688-4D52-4024-AA81-E7EA90A1B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D74D-61DD-4D3D-9796-A20B5A033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8260-C8D8-4D4A-92CA-6D280E96E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C38B-E858-4F2C-AEE9-EF746F347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3D324-919C-4D1B-A5B4-C6E7042915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apsites.net/gotham01/webpages/isaacs/Immigrants%2520seeing%2520Statue.jpg&amp;imgrefurl=http://www.mapsites.net/gotham01/webpages/isaacs/index.htm&amp;h=514&amp;w=640&amp;sz=86&amp;hl=en&amp;start=5&amp;tbnid=-hGJN2xi_QjhTM:&amp;tbnh=110&amp;tbnw=137&amp;prev=/images%3Fq%3Dimmigrants%26svnum%3D10%26hl%3Den%26lr%3D%26sa%3DG" TargetMode="External"/><Relationship Id="rId2" Type="http://schemas.openxmlformats.org/officeDocument/2006/relationships/image" Target="../media/image1.jpe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61960" y="914400"/>
            <a:ext cx="65530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Berlin Sans FB Demi"/>
              </a:rPr>
              <a:t>Immigrants in Americ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Berlin Sans FB"/>
              </a:rPr>
              <a:t>Millions of immigrants moved to the United States in the late 1800’s &amp; early 1900’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Immigrants%2520seeing%2520Statu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762120"/>
            <a:ext cx="2209680" cy="239220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  <p:sndAc>
      <p:stSnd>
        <p:snd r:embed="rId3" name="voltag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ff"/>
                </a:solidFill>
                <a:latin typeface="Berlin Sans FB Demi"/>
              </a:rPr>
              <a:t>Immigration S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cc66ff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ff"/>
                </a:solidFill>
                <a:latin typeface="Berlin Sans FB Demi"/>
              </a:rPr>
              <a:t>Once immigrants arrived in the U.S., they went through immigration stations, such as Ellis Island in New York Harbor.  Government workers questioned them about where they planned to work &amp; live.  Doctors also examined them to make sure they didn’t have any diseases.  Almost all European immigrants were allowed to enter the U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  <p:sndAc>
      <p:stSnd>
        <p:snd r:embed="rId1" name="bomb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0" y="228600"/>
          <a:ext cx="9144000" cy="629460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471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ff33"/>
                          </a:solidFill>
                          <a:latin typeface="Berlin Sans FB Demi"/>
                        </a:rPr>
                        <a:t>New immigrants arriving at Ellis Island. At Ellis they will be "processed" before they are allowed to continue their journey to find a new hom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6" name="Picture 5" descr="Photo of immigrants arriving at Ellis Island"/>
          <p:cNvPicPr/>
          <p:nvPr/>
        </p:nvPicPr>
        <p:blipFill>
          <a:blip r:embed="rId1"/>
          <a:stretch/>
        </p:blipFill>
        <p:spPr>
          <a:xfrm>
            <a:off x="1981080" y="685800"/>
            <a:ext cx="4762800" cy="419112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  <p:sndAc>
      <p:stSnd>
        <p:snd r:embed="rId2" name="breez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growthcenters-big"/>
          <p:cNvPicPr/>
          <p:nvPr/>
        </p:nvPicPr>
        <p:blipFill>
          <a:blip r:embed="rId1"/>
          <a:stretch/>
        </p:blipFill>
        <p:spPr>
          <a:xfrm>
            <a:off x="914400" y="781200"/>
            <a:ext cx="7848720" cy="568296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  <p:sndAc>
      <p:stSnd>
        <p:snd r:embed="rId2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erlin Sans FB Demi"/>
              </a:rPr>
              <a:t>Laws Against Immig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Berlin Sans FB Demi"/>
              </a:rPr>
              <a:t>1882 Congress passed Chinese Exclusion 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Berlin Sans FB Demi"/>
              </a:rPr>
              <a:t>Almost all Chinese immigrants were kept out of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Berlin Sans FB Demi"/>
              </a:rPr>
              <a:t>1921 &amp; 1924 Congress passed laws that lowered  the number of Europeans &amp; Asi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Berlin Sans FB Demi"/>
              </a:rPr>
              <a:t>All immigrants faced prejudice upon arri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  <p:sndAc>
      <p:stSnd>
        <p:snd r:embed="rId1" name="wind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254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Berlin Sans FB Demi"/>
              </a:rPr>
              <a:t>Immigrants helped the U.S. become one of the richest and fastest-growing countries in the world.  They built railroads, dug mines, and worked in factori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day_without_immigrants"/>
          <p:cNvPicPr/>
          <p:nvPr/>
        </p:nvPicPr>
        <p:blipFill>
          <a:blip r:embed="rId1"/>
          <a:stretch/>
        </p:blipFill>
        <p:spPr>
          <a:xfrm>
            <a:off x="2666880" y="3124080"/>
            <a:ext cx="3581640" cy="347508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  <p:sndAc>
      <p:stSnd>
        <p:snd r:embed="rId2" name="coin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8" descr="im2"/>
          <p:cNvPicPr/>
          <p:nvPr/>
        </p:nvPicPr>
        <p:blipFill>
          <a:blip r:embed="rId1"/>
          <a:stretch/>
        </p:blipFill>
        <p:spPr>
          <a:xfrm>
            <a:off x="762120" y="685800"/>
            <a:ext cx="7772400" cy="556272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2" name="applaus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4T16:16:47Z</dcterms:created>
  <dc:creator>Your User Name</dc:creator>
  <dc:description/>
  <dc:language>en-US</dc:language>
  <cp:lastModifiedBy>LEGION</cp:lastModifiedBy>
  <dcterms:modified xsi:type="dcterms:W3CDTF">2017-07-03T11:22:33Z</dcterms:modified>
  <cp:revision>8</cp:revision>
  <dc:subject/>
  <dc:title>Immigrants in America</dc:title>
</cp:coreProperties>
</file>